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C605A-373D-4048-B9E5-4699C200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4CEC3-3135-42B7-ADD9-D4AC052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F299E-1D31-4544-B381-0B1DF595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EC1AA-D09E-482F-8B8E-A56BD34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EE2C4-5245-455E-87F5-42CA8621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42BD9-F70B-400F-A03A-0C22479E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4F6E3-C587-4F68-AB1A-6B2AC007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9F19E-30AA-4245-A11A-C4F93833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C2E66-5E2B-4C89-BD93-3128069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5AC7B-1733-47C4-A174-927E870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9F6B2-2DA8-4CD7-A5E1-269882FA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7EF4B-8F39-4C50-BBBC-777D5A1D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7A506-AB2E-4B6A-9939-D61F03C3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4C28C0-7B5C-495C-A439-1F63D062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28701-A879-4322-AED0-FF8516EF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64C84E-114A-442D-A575-CA5C3678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359A3-68A1-47AF-BFCE-084AD8EB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5F098-F949-489C-9F7B-C0DBD060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2FF77-035D-42C9-952E-4A2FBE12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61C80-48A8-42A6-8E03-715011F0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28A63-B37F-436B-8FD2-A0F9856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B2624-EB62-426D-8BC5-4E94F2ED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976C4-D6F7-4087-ACEA-9F3FB10F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5415C-EC5A-46F5-9392-C291445A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purple cogs"/>
          <p:cNvPicPr/>
          <p:nvPr/>
        </p:nvPicPr>
        <p:blipFill>
          <a:blip r:embed="rId2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2BFA-0708-40D7-8319-589453695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UoE Corporate PowerpointTitle3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BF1A-D07D-47B7-B2F2-6891D7AC2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571760" y="2714760"/>
            <a:ext cx="600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95280" y="2060640"/>
            <a:ext cx="8497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ituational/contingency Leadership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ersey-Blanchard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970/80)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adership style changes according to the 'situation‘ and in  response to the individuals being managed – their competency and motiv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1422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eadership The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3284640"/>
          <a:ext cx="8229600" cy="3097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eten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w competen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me competen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competen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igh competen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tiv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w commitment/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able and unwilling or insec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riable commitment/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able but willing or motivate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riable commitment/ Able but unwilling or insec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igh commitment/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ble and willing or motiva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ership sty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RECTIV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Telling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ACHIN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Selling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IV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Participating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LEGATO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Observing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2000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98560" y="198900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ansformational Theory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Bass and Avolio, 1994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aders inspire individuals, develop trust, and encourage creativity and personal growt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ividuals develop a sense of purpose to benefit the group, organisation or society. This goes beyond their own self-interests and an exchange of rewards or recognition for effort or loyal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ew Leadership The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280" y="213192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thical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SR, sustainability, equality, humanitari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ur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 - Purpose, People, Planet, Prob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businessballs_management_diagram"/>
          <p:cNvPicPr/>
          <p:nvPr/>
        </p:nvPicPr>
        <p:blipFill>
          <a:blip r:embed="rId1"/>
          <a:stretch/>
        </p:blipFill>
        <p:spPr>
          <a:xfrm>
            <a:off x="3348000" y="36450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419640" y="609300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504d"/>
                </a:solidFill>
                <a:latin typeface="Arial"/>
              </a:rPr>
              <a:t>Alan Chapman,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eadership Philosoph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ou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erc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amine and discuss the Team Lea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Job descri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key responsibilities of the team leader ro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7054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Guide/coordinate tea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embers – encourage teamwork and motivate individu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vide structur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team – set mission and purpose, clarify roles and responsibilities, allocate tasks and set objectiv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rify working method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practises and protoco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ocus on performanc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anticipate challenges, monitor performance, delegate and provide CPD suppor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16000" y="134136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Key Team Leader Responsibil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47640" y="2349360"/>
            <a:ext cx="66088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sponsibility Vs Accountabil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does having authority mea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8190000" y="4960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4000" y="2304720"/>
            <a:ext cx="8064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ccountability the state of being accountable, liable, or answe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sponsibility (for objects, tasks or people)  can be delegated but accountability can no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buck stops with you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 good leader accepts ultimate responsibilit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ill give credit to others when delegated responsibilities succ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ill accept blame when delegated responsibilities f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ccountability can not operate fairly without the leader being given full authority for the responsibilities conce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uthority is the power to influence or command thought, opinion or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ross-functional team – less authority - more difficult to man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155736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ccountability, Responsibility, and Author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55280" y="1773000"/>
            <a:ext cx="76899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roup Exercis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en have you experienced an issue as a leader that you did not have the authority to resolve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id you know you did not have the author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did you refer to for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examples from your own current experie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work, volunteer, club /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4360" y="206028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am Leader authority will vary from role to role dependent on the scope of duties and organisational structu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Team Leader may refer to line management or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thorities for the following:</a:t>
            </a:r>
            <a:br>
              <a:rPr sz="24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R 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ff recruitment  and training, performance and discipline, racism or bully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olicy and procedure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and Safety, changes to working practi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udget &amp; resourc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allocation and manag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ganisational objectiv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strategy, targ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naging chang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department restructure, office mo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ne managem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support and advice, own CP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628720" y="142236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eam Leader Autho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000" y="1348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How to improve your leadership ski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flect and identify the skills YOU need to lead effectively and create your action plan to develop them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k for feedback from work colleagues, line managers, tutors, your ‘followers’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actise! Take on responsibility (work, volunteering, clubs &amp; Societies)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ind a mentor – learn from positive leadership role-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ttend further leadership and management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the resources on Exeter Leaders Award ELE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at is leadersh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dentify the traits and skills of an effective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Key leadership the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amine the role, duties and responsibilities of a Team Leader in the work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Understand the limits of authority in a Team Leader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velop a plan to develop your own leadership potent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view your performance as a Lea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826920" y="2060640"/>
            <a:ext cx="7921800" cy="59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dividual Exercise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sess yourself as a Lead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nduct a SWOT analysis - Strengths, Weaknesses, Opportunities, Threa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(Use the Results of Leadership Questionnaire you have been completed prior to attending the session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velop an Action Plan to improve as a l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 2 actions you will undertake to address Weaknesses or capitalise on Opportunities identifi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ply SMART targets to your actions – Specific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asurable, Achievable, Realistic, Time-bou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at is leadersh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dentify the traits and skills of an effective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Key leadership the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amine the role, duties and responsibilities of a Team Leader in the work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Understand the limits of authority in a Team Leader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velop a plan to develop your own leadership potent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0560" y="1563840"/>
            <a:ext cx="835344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derstanding Leader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2898720"/>
            <a:ext cx="777708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at is leadership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y is leadership important – why do we need lead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aders – born or br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561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"Leadership is a function of knowing yourself, having a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vision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that is well communicated,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building trust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mong colleagues, and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taking effective action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to realize your own leadership potential."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f. Warren Benn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00000" y="1988640"/>
            <a:ext cx="73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ercise In pair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cuss examples you have come across of strong and weak lead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examples from employment, academic studies or participation in sports clubs and societies (keep anonymo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000" y="2178000"/>
            <a:ext cx="813564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ly Theori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Great Man Theori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aders are exceptional people, born with innate qualities, destined to le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rm 'man' was intentional - concept was primarily male, military and Wester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rait Theori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on traits or qualities associated with leadership are numero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its are hard to measure. For example, how do we measure honesty or integrity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148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dership The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520" y="1464840"/>
            <a:ext cx="67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adership Tra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637000"/>
            <a:ext cx="7731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oup Exerc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oose leaders YOU adm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personality traits and skills do they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33080" y="2060640"/>
            <a:ext cx="46083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rai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aptable to situ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ert to social environ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mbitious and achievement orient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r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opera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cis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minant (desire to influence other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ergetic (high activity leve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sist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f-confid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lerant of stre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illing to assume responsi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968720" y="2160720"/>
            <a:ext cx="40672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kill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lever (intelligent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ceptually skille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eat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plomatic and tactfu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luent in speaking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Knowledgeable about group tas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ganised (administrative ability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sua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cially skille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ogdill, 197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0" y="155736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dership Traits and Skill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39640" y="609300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4932360" y="5516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eaders will also use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grity, Honesty, Compassion, Hum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1280" y="1915920"/>
            <a:ext cx="7129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unctional Theori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John Adair, Action Centred Leadership, 1970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ader is concerned with the interaction of 3 are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ask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– goal setting, methods and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eam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– effective interaction/communication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larify roles, team mor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dividual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– attention to behaviour,  feeling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aching, C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141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dership The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adair_circles"/>
          <p:cNvPicPr/>
          <p:nvPr/>
        </p:nvPicPr>
        <p:blipFill>
          <a:blip r:embed="rId1"/>
          <a:stretch/>
        </p:blipFill>
        <p:spPr>
          <a:xfrm>
            <a:off x="6516720" y="2421000"/>
            <a:ext cx="1800360" cy="1765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11280" y="4427640"/>
            <a:ext cx="7920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haviourist Theori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Blake and Mouton, Managerial grid, 1964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aders behaviour and actions, rather than their traits and skills e.g. production orientated or people orientate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fferent leadership behaviours categorised as ‘leadership styles’ e.g. autocratic, persuasive, consultative, democra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n’t provide guide to effective leadership in different situation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8:19:32Z</dcterms:created>
  <dc:creator/>
  <dc:description/>
  <dc:language>en-US</dc:language>
  <cp:lastModifiedBy>Bright</cp:lastModifiedBy>
  <dcterms:modified xsi:type="dcterms:W3CDTF">2013-08-23T06:45:07Z</dcterms:modified>
  <cp:revision>205</cp:revision>
  <dc:subject/>
  <dc:title>PowerPoint Presentation</dc:title>
</cp:coreProperties>
</file>